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040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048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82240" y="686880"/>
            <a:ext cx="456876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7FEF-9139-4485-8B13-6DC098AD1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09B9-03C1-42A9-8A80-518A9DE12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1240-B804-4E8F-B456-EED0A86FC4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4400" y="6872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10552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448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3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4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7"/>
          <p:cNvSpPr/>
          <p:nvPr/>
        </p:nvSpPr>
        <p:spPr>
          <a:xfrm>
            <a:off x="533520" y="3124080"/>
            <a:ext cx="792468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lm Magee, MD, MPH, FRCPI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enal Unit, Beaumont Hospita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v 2015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052"/>
          <p:cNvSpPr/>
          <p:nvPr/>
        </p:nvSpPr>
        <p:spPr>
          <a:xfrm>
            <a:off x="457200" y="8380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ality and Safety in Therapeutic Plasma Exchange (TP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1143000"/>
            <a:ext cx="819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1062000" y="114300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H="1">
            <a:off x="1964880" y="5943600"/>
            <a:ext cx="7178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14"/>
          <p:cNvSpPr/>
          <p:nvPr/>
        </p:nvSpPr>
        <p:spPr>
          <a:xfrm flipV="1">
            <a:off x="609480" y="2590920"/>
            <a:ext cx="0" cy="457200"/>
          </a:xfrm>
          <a:prstGeom prst="line">
            <a:avLst/>
          </a:prstGeom>
          <a:ln w="5076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4"/>
          <p:cNvSpPr/>
          <p:nvPr/>
        </p:nvSpPr>
        <p:spPr>
          <a:xfrm>
            <a:off x="1143000" y="1066680"/>
            <a:ext cx="0" cy="4876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0" y="3124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ti-A Ti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041000" y="61722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81960" y="5791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>
            <a:off x="7315200" y="57913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707160" y="617220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anspl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5105520" y="6400800"/>
            <a:ext cx="6760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94120" y="1117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/1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1817640" y="1371600"/>
            <a:ext cx="7326360" cy="4444920"/>
          </a:xfrm>
          <a:custGeom>
            <a:avLst/>
            <a:gdLst>
              <a:gd name="textAreaLeft" fmla="*/ 0 w 7326360"/>
              <a:gd name="textAreaRight" fmla="*/ 7326720 w 7326360"/>
              <a:gd name="textAreaTop" fmla="*/ 0 h 4444920"/>
              <a:gd name="textAreaBottom" fmla="*/ 4445280 h 4444920"/>
            </a:gdLst>
            <a:ahLst/>
            <a:rect l="textAreaLeft" t="textAreaTop" r="textAreaRight" b="textAreaBottom"/>
            <a:pathLst>
              <a:path w="5192" h="2800">
                <a:moveTo>
                  <a:pt x="0" y="0"/>
                </a:moveTo>
                <a:cubicBezTo>
                  <a:pt x="11" y="34"/>
                  <a:pt x="30" y="42"/>
                  <a:pt x="56" y="64"/>
                </a:cubicBezTo>
                <a:cubicBezTo>
                  <a:pt x="65" y="71"/>
                  <a:pt x="73" y="79"/>
                  <a:pt x="80" y="88"/>
                </a:cubicBezTo>
                <a:cubicBezTo>
                  <a:pt x="86" y="95"/>
                  <a:pt x="89" y="106"/>
                  <a:pt x="96" y="112"/>
                </a:cubicBezTo>
                <a:cubicBezTo>
                  <a:pt x="110" y="125"/>
                  <a:pt x="128" y="133"/>
                  <a:pt x="144" y="144"/>
                </a:cubicBezTo>
                <a:cubicBezTo>
                  <a:pt x="160" y="155"/>
                  <a:pt x="192" y="176"/>
                  <a:pt x="192" y="176"/>
                </a:cubicBezTo>
                <a:cubicBezTo>
                  <a:pt x="217" y="214"/>
                  <a:pt x="205" y="191"/>
                  <a:pt x="224" y="248"/>
                </a:cubicBezTo>
                <a:cubicBezTo>
                  <a:pt x="239" y="292"/>
                  <a:pt x="290" y="343"/>
                  <a:pt x="328" y="368"/>
                </a:cubicBezTo>
                <a:cubicBezTo>
                  <a:pt x="344" y="415"/>
                  <a:pt x="324" y="372"/>
                  <a:pt x="360" y="408"/>
                </a:cubicBezTo>
                <a:cubicBezTo>
                  <a:pt x="397" y="445"/>
                  <a:pt x="350" y="425"/>
                  <a:pt x="408" y="440"/>
                </a:cubicBezTo>
                <a:cubicBezTo>
                  <a:pt x="424" y="456"/>
                  <a:pt x="440" y="472"/>
                  <a:pt x="456" y="488"/>
                </a:cubicBezTo>
                <a:cubicBezTo>
                  <a:pt x="462" y="494"/>
                  <a:pt x="460" y="505"/>
                  <a:pt x="464" y="512"/>
                </a:cubicBezTo>
                <a:cubicBezTo>
                  <a:pt x="473" y="529"/>
                  <a:pt x="485" y="544"/>
                  <a:pt x="496" y="560"/>
                </a:cubicBezTo>
                <a:cubicBezTo>
                  <a:pt x="501" y="568"/>
                  <a:pt x="504" y="579"/>
                  <a:pt x="512" y="584"/>
                </a:cubicBezTo>
                <a:cubicBezTo>
                  <a:pt x="538" y="601"/>
                  <a:pt x="565" y="607"/>
                  <a:pt x="592" y="624"/>
                </a:cubicBezTo>
                <a:cubicBezTo>
                  <a:pt x="622" y="643"/>
                  <a:pt x="645" y="667"/>
                  <a:pt x="672" y="688"/>
                </a:cubicBezTo>
                <a:cubicBezTo>
                  <a:pt x="687" y="700"/>
                  <a:pt x="720" y="720"/>
                  <a:pt x="720" y="720"/>
                </a:cubicBezTo>
                <a:cubicBezTo>
                  <a:pt x="739" y="776"/>
                  <a:pt x="811" y="875"/>
                  <a:pt x="856" y="920"/>
                </a:cubicBezTo>
                <a:cubicBezTo>
                  <a:pt x="890" y="954"/>
                  <a:pt x="937" y="969"/>
                  <a:pt x="968" y="1008"/>
                </a:cubicBezTo>
                <a:cubicBezTo>
                  <a:pt x="1019" y="1072"/>
                  <a:pt x="1041" y="1162"/>
                  <a:pt x="1128" y="1184"/>
                </a:cubicBezTo>
                <a:cubicBezTo>
                  <a:pt x="1166" y="1241"/>
                  <a:pt x="1161" y="1252"/>
                  <a:pt x="1232" y="1264"/>
                </a:cubicBezTo>
                <a:cubicBezTo>
                  <a:pt x="1280" y="1328"/>
                  <a:pt x="1229" y="1270"/>
                  <a:pt x="1288" y="1312"/>
                </a:cubicBezTo>
                <a:cubicBezTo>
                  <a:pt x="1318" y="1333"/>
                  <a:pt x="1329" y="1372"/>
                  <a:pt x="1360" y="1392"/>
                </a:cubicBezTo>
                <a:cubicBezTo>
                  <a:pt x="1377" y="1403"/>
                  <a:pt x="1445" y="1408"/>
                  <a:pt x="1448" y="1408"/>
                </a:cubicBezTo>
                <a:cubicBezTo>
                  <a:pt x="1504" y="1450"/>
                  <a:pt x="1552" y="1494"/>
                  <a:pt x="1608" y="1536"/>
                </a:cubicBezTo>
                <a:cubicBezTo>
                  <a:pt x="1616" y="1542"/>
                  <a:pt x="1616" y="1554"/>
                  <a:pt x="1624" y="1560"/>
                </a:cubicBezTo>
                <a:cubicBezTo>
                  <a:pt x="1656" y="1585"/>
                  <a:pt x="1702" y="1581"/>
                  <a:pt x="1736" y="1600"/>
                </a:cubicBezTo>
                <a:cubicBezTo>
                  <a:pt x="1753" y="1609"/>
                  <a:pt x="1767" y="1623"/>
                  <a:pt x="1784" y="1632"/>
                </a:cubicBezTo>
                <a:cubicBezTo>
                  <a:pt x="1795" y="1637"/>
                  <a:pt x="1805" y="1643"/>
                  <a:pt x="1816" y="1648"/>
                </a:cubicBezTo>
                <a:cubicBezTo>
                  <a:pt x="1858" y="1710"/>
                  <a:pt x="1840" y="1698"/>
                  <a:pt x="1912" y="1712"/>
                </a:cubicBezTo>
                <a:cubicBezTo>
                  <a:pt x="1969" y="1741"/>
                  <a:pt x="2029" y="1738"/>
                  <a:pt x="2088" y="1768"/>
                </a:cubicBezTo>
                <a:cubicBezTo>
                  <a:pt x="2118" y="1783"/>
                  <a:pt x="2158" y="1798"/>
                  <a:pt x="2184" y="1824"/>
                </a:cubicBezTo>
                <a:cubicBezTo>
                  <a:pt x="2207" y="1847"/>
                  <a:pt x="2193" y="1859"/>
                  <a:pt x="2232" y="1872"/>
                </a:cubicBezTo>
                <a:cubicBezTo>
                  <a:pt x="2265" y="1883"/>
                  <a:pt x="2302" y="1881"/>
                  <a:pt x="2336" y="1888"/>
                </a:cubicBezTo>
                <a:cubicBezTo>
                  <a:pt x="2388" y="1914"/>
                  <a:pt x="2423" y="1956"/>
                  <a:pt x="2472" y="1984"/>
                </a:cubicBezTo>
                <a:cubicBezTo>
                  <a:pt x="2520" y="2011"/>
                  <a:pt x="2570" y="2033"/>
                  <a:pt x="2616" y="2064"/>
                </a:cubicBezTo>
                <a:cubicBezTo>
                  <a:pt x="2655" y="2122"/>
                  <a:pt x="2764" y="2107"/>
                  <a:pt x="2824" y="2112"/>
                </a:cubicBezTo>
                <a:cubicBezTo>
                  <a:pt x="2861" y="2130"/>
                  <a:pt x="2868" y="2152"/>
                  <a:pt x="2896" y="2176"/>
                </a:cubicBezTo>
                <a:cubicBezTo>
                  <a:pt x="2926" y="2201"/>
                  <a:pt x="2973" y="2200"/>
                  <a:pt x="3008" y="2208"/>
                </a:cubicBezTo>
                <a:cubicBezTo>
                  <a:pt x="3148" y="2238"/>
                  <a:pt x="3006" y="2213"/>
                  <a:pt x="3120" y="2232"/>
                </a:cubicBezTo>
                <a:cubicBezTo>
                  <a:pt x="3154" y="2283"/>
                  <a:pt x="3172" y="2282"/>
                  <a:pt x="3232" y="2312"/>
                </a:cubicBezTo>
                <a:cubicBezTo>
                  <a:pt x="3254" y="2323"/>
                  <a:pt x="3266" y="2339"/>
                  <a:pt x="3288" y="2352"/>
                </a:cubicBezTo>
                <a:cubicBezTo>
                  <a:pt x="3309" y="2364"/>
                  <a:pt x="3332" y="2371"/>
                  <a:pt x="3352" y="2384"/>
                </a:cubicBezTo>
                <a:cubicBezTo>
                  <a:pt x="3365" y="2392"/>
                  <a:pt x="3372" y="2407"/>
                  <a:pt x="3384" y="2416"/>
                </a:cubicBezTo>
                <a:cubicBezTo>
                  <a:pt x="3413" y="2438"/>
                  <a:pt x="3449" y="2437"/>
                  <a:pt x="3480" y="2456"/>
                </a:cubicBezTo>
                <a:cubicBezTo>
                  <a:pt x="3516" y="2479"/>
                  <a:pt x="3544" y="2515"/>
                  <a:pt x="3584" y="2528"/>
                </a:cubicBezTo>
                <a:cubicBezTo>
                  <a:pt x="3605" y="2560"/>
                  <a:pt x="3628" y="2575"/>
                  <a:pt x="3656" y="2600"/>
                </a:cubicBezTo>
                <a:cubicBezTo>
                  <a:pt x="3719" y="2657"/>
                  <a:pt x="3679" y="2640"/>
                  <a:pt x="3728" y="2656"/>
                </a:cubicBezTo>
                <a:cubicBezTo>
                  <a:pt x="3743" y="2700"/>
                  <a:pt x="3752" y="2744"/>
                  <a:pt x="3800" y="2760"/>
                </a:cubicBezTo>
                <a:cubicBezTo>
                  <a:pt x="3826" y="2799"/>
                  <a:pt x="3847" y="2793"/>
                  <a:pt x="3896" y="2800"/>
                </a:cubicBezTo>
                <a:cubicBezTo>
                  <a:pt x="3931" y="2794"/>
                  <a:pt x="3964" y="2793"/>
                  <a:pt x="3992" y="2768"/>
                </a:cubicBezTo>
                <a:cubicBezTo>
                  <a:pt x="4009" y="2753"/>
                  <a:pt x="4024" y="2736"/>
                  <a:pt x="4040" y="2720"/>
                </a:cubicBezTo>
                <a:cubicBezTo>
                  <a:pt x="4048" y="2712"/>
                  <a:pt x="4053" y="2700"/>
                  <a:pt x="4064" y="2696"/>
                </a:cubicBezTo>
                <a:cubicBezTo>
                  <a:pt x="4106" y="2682"/>
                  <a:pt x="4143" y="2662"/>
                  <a:pt x="4184" y="2648"/>
                </a:cubicBezTo>
                <a:cubicBezTo>
                  <a:pt x="4199" y="2633"/>
                  <a:pt x="4265" y="2588"/>
                  <a:pt x="4280" y="2584"/>
                </a:cubicBezTo>
                <a:cubicBezTo>
                  <a:pt x="4301" y="2579"/>
                  <a:pt x="4344" y="2568"/>
                  <a:pt x="4344" y="2568"/>
                </a:cubicBezTo>
                <a:cubicBezTo>
                  <a:pt x="4459" y="2581"/>
                  <a:pt x="4496" y="2616"/>
                  <a:pt x="4592" y="2664"/>
                </a:cubicBezTo>
                <a:cubicBezTo>
                  <a:pt x="4638" y="2687"/>
                  <a:pt x="4695" y="2688"/>
                  <a:pt x="4744" y="2704"/>
                </a:cubicBezTo>
                <a:cubicBezTo>
                  <a:pt x="4888" y="2698"/>
                  <a:pt x="4932" y="2697"/>
                  <a:pt x="5048" y="2664"/>
                </a:cubicBezTo>
                <a:cubicBezTo>
                  <a:pt x="5073" y="2689"/>
                  <a:pt x="5094" y="2701"/>
                  <a:pt x="5128" y="2712"/>
                </a:cubicBezTo>
                <a:cubicBezTo>
                  <a:pt x="5152" y="2730"/>
                  <a:pt x="5167" y="2755"/>
                  <a:pt x="5192" y="276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5257800" y="1828800"/>
            <a:ext cx="914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1526760" y="838080"/>
            <a:ext cx="1194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tuxim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30"/>
          <p:cNvSpPr/>
          <p:nvPr/>
        </p:nvSpPr>
        <p:spPr>
          <a:xfrm flipH="1">
            <a:off x="1447560" y="1143000"/>
            <a:ext cx="2286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31"/>
          <p:cNvSpPr/>
          <p:nvPr/>
        </p:nvSpPr>
        <p:spPr>
          <a:xfrm>
            <a:off x="2743200" y="220968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32"/>
          <p:cNvSpPr/>
          <p:nvPr/>
        </p:nvSpPr>
        <p:spPr>
          <a:xfrm>
            <a:off x="5562720" y="419112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33"/>
          <p:cNvSpPr/>
          <p:nvPr/>
        </p:nvSpPr>
        <p:spPr>
          <a:xfrm>
            <a:off x="6553080" y="487692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34"/>
          <p:cNvSpPr/>
          <p:nvPr/>
        </p:nvSpPr>
        <p:spPr>
          <a:xfrm>
            <a:off x="8763120" y="525780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7772400" y="510552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36"/>
          <p:cNvSpPr/>
          <p:nvPr/>
        </p:nvSpPr>
        <p:spPr>
          <a:xfrm>
            <a:off x="4419720" y="365760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37"/>
          <p:cNvSpPr/>
          <p:nvPr/>
        </p:nvSpPr>
        <p:spPr>
          <a:xfrm>
            <a:off x="3352680" y="297180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38"/>
          <p:cNvSpPr/>
          <p:nvPr/>
        </p:nvSpPr>
        <p:spPr>
          <a:xfrm>
            <a:off x="1981080" y="137160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39"/>
          <p:cNvSpPr/>
          <p:nvPr/>
        </p:nvSpPr>
        <p:spPr>
          <a:xfrm>
            <a:off x="5562720" y="2286000"/>
            <a:ext cx="228600" cy="228600"/>
          </a:xfrm>
          <a:prstGeom prst="flowChartMerge">
            <a:avLst/>
          </a:pr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8377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ypical Protocol for Desensitiz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Freeform 41"/>
          <p:cNvSpPr/>
          <p:nvPr/>
        </p:nvSpPr>
        <p:spPr>
          <a:xfrm>
            <a:off x="1133640" y="5846760"/>
            <a:ext cx="823680" cy="144360"/>
          </a:xfrm>
          <a:custGeom>
            <a:avLst/>
            <a:gdLst>
              <a:gd name="textAreaLeft" fmla="*/ 0 w 823680"/>
              <a:gd name="textAreaRight" fmla="*/ 824040 w 823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519" h="91">
                <a:moveTo>
                  <a:pt x="0" y="65"/>
                </a:moveTo>
                <a:cubicBezTo>
                  <a:pt x="8" y="62"/>
                  <a:pt x="17" y="62"/>
                  <a:pt x="24" y="57"/>
                </a:cubicBezTo>
                <a:cubicBezTo>
                  <a:pt x="52" y="34"/>
                  <a:pt x="26" y="20"/>
                  <a:pt x="57" y="49"/>
                </a:cubicBezTo>
                <a:cubicBezTo>
                  <a:pt x="68" y="16"/>
                  <a:pt x="81" y="11"/>
                  <a:pt x="113" y="0"/>
                </a:cubicBezTo>
                <a:cubicBezTo>
                  <a:pt x="121" y="3"/>
                  <a:pt x="133" y="1"/>
                  <a:pt x="138" y="8"/>
                </a:cubicBezTo>
                <a:cubicBezTo>
                  <a:pt x="163" y="45"/>
                  <a:pt x="124" y="72"/>
                  <a:pt x="170" y="24"/>
                </a:cubicBezTo>
                <a:cubicBezTo>
                  <a:pt x="181" y="59"/>
                  <a:pt x="174" y="69"/>
                  <a:pt x="211" y="81"/>
                </a:cubicBezTo>
                <a:cubicBezTo>
                  <a:pt x="231" y="77"/>
                  <a:pt x="257" y="79"/>
                  <a:pt x="268" y="57"/>
                </a:cubicBezTo>
                <a:cubicBezTo>
                  <a:pt x="276" y="42"/>
                  <a:pt x="284" y="8"/>
                  <a:pt x="284" y="8"/>
                </a:cubicBezTo>
                <a:cubicBezTo>
                  <a:pt x="287" y="27"/>
                  <a:pt x="282" y="49"/>
                  <a:pt x="292" y="65"/>
                </a:cubicBezTo>
                <a:cubicBezTo>
                  <a:pt x="309" y="91"/>
                  <a:pt x="320" y="45"/>
                  <a:pt x="324" y="33"/>
                </a:cubicBezTo>
                <a:cubicBezTo>
                  <a:pt x="358" y="81"/>
                  <a:pt x="368" y="68"/>
                  <a:pt x="406" y="33"/>
                </a:cubicBezTo>
                <a:cubicBezTo>
                  <a:pt x="476" y="56"/>
                  <a:pt x="389" y="35"/>
                  <a:pt x="446" y="24"/>
                </a:cubicBezTo>
                <a:cubicBezTo>
                  <a:pt x="454" y="22"/>
                  <a:pt x="462" y="31"/>
                  <a:pt x="470" y="33"/>
                </a:cubicBezTo>
                <a:cubicBezTo>
                  <a:pt x="481" y="36"/>
                  <a:pt x="492" y="38"/>
                  <a:pt x="503" y="41"/>
                </a:cubicBezTo>
                <a:cubicBezTo>
                  <a:pt x="512" y="69"/>
                  <a:pt x="505" y="59"/>
                  <a:pt x="519" y="7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about Myeloma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800100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cute renal failure a/w myeloma: the evidence is now poor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sma exchange when myeloma presents as acute renal failure: a randomized, controlled trial; Clark et al. 2005, 143:777-8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yperviscosity syndrome a/w myeloma is still an indication for TPE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dications: NonRen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1371600"/>
            <a:ext cx="8001000" cy="52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yesthenia gravi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cute and chronic demyelinating neuropathie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nti-NMDA receptor encephaliti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Arial"/>
              </a:rPr>
              <a:t>TTP (emergency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yperviscosity syndrome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atastrophic anti-phospholipid syndrome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crip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1600200"/>
            <a:ext cx="83055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3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Will depend on urgency of removal of toxic macromolecule and the type of molecule and the disease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gM mainly intravascular – easily removed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gG only 50% intravascular – less easily removed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bound!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crip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09480" y="1447920"/>
            <a:ext cx="830592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aily in severe anti-GBM disease or TTP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1.0 plasma volume = 60% remova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1.5 plasma volume = 75% remova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r: 50-60 ml / kg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pprox 5 sessions over 8 days removes 90% of IgG (assuming minimal new synthesis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ften we do 5-7 sessions over 10 days then pause and reasses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lculating Volum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447920"/>
            <a:ext cx="868680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ff33"/>
                </a:solidFill>
                <a:latin typeface="Arial"/>
              </a:rPr>
              <a:t>Estimated plasma volume (in litres)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  =  0.07  x  wt (kg)  x  (1 - hematocrit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So, </a:t>
            </a:r>
            <a:r>
              <a:rPr b="0" lang="en-IE" sz="3000" spc="-1" strike="noStrike">
                <a:solidFill>
                  <a:srgbClr val="66ff33"/>
                </a:solidFill>
                <a:latin typeface="Arial"/>
              </a:rPr>
              <a:t>1 plasma volume</a:t>
            </a: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 in 80kg male with Hct of 30 (0.3) = 0.07 x 80 x 0.7 = 3.92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6ff33"/>
                </a:solidFill>
                <a:latin typeface="Arial"/>
              </a:rPr>
              <a:t>1.5 plasma volumes</a:t>
            </a: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 = 3.92 x 1.5 = 5.88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Whereas… 1 plasma volume in 60kg female with Hct of 35 (0.35) = 0.07 x 60 x 0.65 = 2.73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placement Flu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09480" y="1523880"/>
            <a:ext cx="800100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30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pend on underlying disease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0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ome combination of: albumin + NS + FFP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0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Where FFP not indicated: 2/3 albumin + 1/3 NS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0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Where FFP is indicated:  % replaced as FFP varie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0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yperviscosity: 100% replace with NS!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Practical Poin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600200"/>
            <a:ext cx="876312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prescribe some heparin, as otherwise, system will c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osuppressive drugs usually prescribed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any antibody therapies or other critical therapies are NOT given just before T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nal transplant, IVIg often given after the course of T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dications for Replacement with FF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905120"/>
            <a:ext cx="8458200" cy="45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75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 / TTP (replace 100% with FF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75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dney biopsy / surgery / other invasive procedure within last 48 hrs (partially replace with FF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75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/ recent bleeding inc pulmonary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75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TPE sessions even if no bleeding: partially replace with FFP every 3rd-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2120" y="1447920"/>
            <a:ext cx="800100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lated to vascular acces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llergic reaction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ypocalcemia – especially if using FFP </a:t>
            </a:r>
            <a:r>
              <a:rPr b="0" lang="en-US" sz="3300" spc="-1" strike="noStrike">
                <a:solidFill>
                  <a:srgbClr val="ffffcc"/>
                </a:solidFill>
                <a:latin typeface="Arial"/>
              </a:rPr>
              <a:t>(citrate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etabolic alkalosis if lots of FFP </a:t>
            </a:r>
            <a:r>
              <a:rPr b="0" lang="en-US" sz="3300" spc="-1" strike="noStrike">
                <a:solidFill>
                  <a:srgbClr val="ffffcc"/>
                </a:solidFill>
                <a:latin typeface="Arial"/>
              </a:rPr>
              <a:t>(citrate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agulapathy / bleeding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06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523880"/>
            <a:ext cx="800100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26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moval of plasma and replacement with certain components of plasma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6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oal is usually removal of a toxic plasma protein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6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n practice, all plasma proteins are removed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6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ither use a </a:t>
            </a:r>
            <a:r>
              <a:rPr b="0" lang="en-US" sz="3300" spc="-1" strike="noStrike">
                <a:solidFill>
                  <a:srgbClr val="ffff99"/>
                </a:solidFill>
                <a:latin typeface="Arial"/>
              </a:rPr>
              <a:t>filter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or a centrifuge system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en do you stop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2120" y="1828800"/>
            <a:ext cx="80010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of disease have normalised e.g. LDH, plts in HUS / T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s of toxic molecule now normal e.g. anti-GBM but watch for rebou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empi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depends whether IgG or 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2280" y="1295280"/>
          <a:ext cx="8991720" cy="5388120"/>
        </p:xfrm>
        <a:graphic>
          <a:graphicData uri="http://schemas.openxmlformats.org/drawingml/2006/table">
            <a:tbl>
              <a:tblPr/>
              <a:tblGrid>
                <a:gridCol w="2971800"/>
                <a:gridCol w="601992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omplication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evention / Treatmen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otension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 removal of plasma; bolus with N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ergic reaction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oid ACE-I; minimise FFP; premedicate with paracetemol, anti-histamine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ocalcemi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ise FFP; slow infusion of FFP; IV or PO calcium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alosi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ise FFP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mbocytopeni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equate heparin!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agulapathy / Bleeding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equate FFP; only do within 24hrs of bx / procedure if TPE urgently indicated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nimising Complica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Prescription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2120" y="1828800"/>
            <a:ext cx="81532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35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70kg male with severe TTP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5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60kg female with hyperviscosity syndrome (IgM paraprotein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5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80kg male with acute anti-GBM disease (renal limited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5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60kg lady with acute pulmonary-renal syndrome, ANCA+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es it work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09480" y="1981080"/>
            <a:ext cx="80010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moval of toxic molecule e.g. anti-GBM, </a:t>
            </a: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ULVWf multimers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ossibly, removal of other inflammatory mediators e.g. complemen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toration of deficient factors e.g. </a:t>
            </a: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ADAMTS13 in HUS / TTP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ood / Plasma Constituen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2120" y="1676520"/>
            <a:ext cx="388620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72000" y="1676520"/>
            <a:ext cx="411480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137320" y="19810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175080" y="19810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066680" y="4572000"/>
            <a:ext cx="160020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219320" y="4876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M, IgG, other I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2666880" y="4572000"/>
            <a:ext cx="160020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5867280" y="4572000"/>
            <a:ext cx="26672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4267080" y="4572000"/>
            <a:ext cx="160020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819520" y="4876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tting 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324480" y="4800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+ Electrol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1219320" y="4572000"/>
            <a:ext cx="0" cy="114300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4419720" y="4800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t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21"/>
          <p:cNvSpPr/>
          <p:nvPr/>
        </p:nvSpPr>
        <p:spPr>
          <a:xfrm rot="7752600">
            <a:off x="4256280" y="3529440"/>
            <a:ext cx="1778040" cy="252360"/>
          </a:xfrm>
          <a:custGeom>
            <a:avLst/>
            <a:gdLst>
              <a:gd name="textAreaLeft" fmla="*/ 277560 w 1778040"/>
              <a:gd name="textAreaRight" fmla="*/ 1555920 w 177804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33520" y="6324480"/>
            <a:ext cx="129528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Toxic molec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Down Arrow 17" descr=""/>
          <p:cNvPicPr/>
          <p:nvPr/>
        </p:nvPicPr>
        <p:blipFill>
          <a:blip r:embed="rId1"/>
          <a:stretch/>
        </p:blipFill>
        <p:spPr>
          <a:xfrm>
            <a:off x="1116000" y="5767560"/>
            <a:ext cx="2001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5438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ndard Plasmaphere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7" descr="shema_plasmapheresis-EN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5438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uble Filtration Plasmapheres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plasma_img02"/>
          <p:cNvPicPr/>
          <p:nvPr/>
        </p:nvPicPr>
        <p:blipFill>
          <a:blip r:embed="rId1"/>
          <a:stretch/>
        </p:blipFill>
        <p:spPr>
          <a:xfrm>
            <a:off x="228600" y="685800"/>
            <a:ext cx="8915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FP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447920"/>
          <a:ext cx="7772400" cy="4992480"/>
        </p:xfrm>
        <a:graphic>
          <a:graphicData uri="http://schemas.openxmlformats.org/drawingml/2006/table">
            <a:tbl>
              <a:tblPr/>
              <a:tblGrid>
                <a:gridCol w="4038480"/>
                <a:gridCol w="37339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3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32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selective r/o plasma produ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more complex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al albumin replacement nee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extra fil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al FFP replacement need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 staff training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dications: Renal (non-transplant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5800" y="2133720"/>
            <a:ext cx="769608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nti-GBM disease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NCA vasculitis (severe: with Cr &gt;500 or pulmonary haemorrhage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4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ertain forms of HUS / TTP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dications: Renal Transp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09480" y="1752480"/>
            <a:ext cx="83059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sensitization across HLA incompatability for kidney transplan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esensitization across ABO incompatability for kidney transplan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cute antibody mediated rejection of transplan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28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currence of primary FSG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79280" indent="-1792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6:53:12Z</dcterms:created>
  <dc:creator>BWH</dc:creator>
  <dc:description/>
  <dc:language>en-US</dc:language>
  <cp:lastModifiedBy>colmmagee</cp:lastModifiedBy>
  <cp:lastPrinted>2001-01-24T19:13:30Z</cp:lastPrinted>
  <dcterms:modified xsi:type="dcterms:W3CDTF">2015-11-18T16:00:42Z</dcterms:modified>
  <cp:revision>840</cp:revision>
  <dc:subject/>
  <dc:title>Acute Renal Failure Syndromes</dc:title>
</cp:coreProperties>
</file>