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png" ContentType="image/png"/>
  <Override PartName="/ppt/media/image11.png" ContentType="image/png"/>
  <Override PartName="/ppt/media/image7.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13.jpeg" ContentType="image/jpeg"/>
  <Override PartName="/ppt/media/image10.png" ContentType="image/png"/>
  <Override PartName="/ppt/media/image6.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10E3D-B200-43B6-B56D-486A9E3E16A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AA452-5376-4097-8FEE-C2850484C3D5}"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 would like to thank on behalf of the Directorate Team at Beaumont hospital all the hard work and enthusiasm from the committee.  There was a lot to organise however i think we may be getting the hang of it as this is the 3</a:t>
            </a:r>
            <a:r>
              <a:rPr b="0" lang="en-IE" sz="1200" spc="-1" strike="noStrike" baseline="30000">
                <a:solidFill>
                  <a:srgbClr val="000000"/>
                </a:solidFill>
                <a:latin typeface="Arial"/>
              </a:rPr>
              <a:t>rd</a:t>
            </a:r>
            <a:r>
              <a:rPr b="0" lang="en-IE" sz="1200" spc="-1" strike="noStrike">
                <a:solidFill>
                  <a:srgbClr val="000000"/>
                </a:solidFill>
                <a:latin typeface="Arial"/>
              </a:rPr>
              <a:t> one. Again this year we are delighted to have had such a large interest from staff to attend from beaumont, ODTI,and  external Renal units from north and sout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4C89F-28EF-406D-9DBE-F0CC753DFC86}"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ould like to say a huge thankyou to all the speakers today, I know you have taken time out of your busy schedule to share your knowledge and experience. We hope this information will be helpful to all and that the information will be taken back to your local areas and shared. The day is jam packed with interesting topics. I am delighted to welcome our guest speaker Ms Joan Heffernan, Inspector Manager, Regulation- Healthcare, HIQA whom I know will leave food for thought for all of us. Joan will be presenting on </a:t>
            </a:r>
            <a:r>
              <a:rPr b="1" lang="en-IE" sz="1200" spc="-1" strike="noStrike">
                <a:solidFill>
                  <a:srgbClr val="000000"/>
                </a:solidFill>
                <a:latin typeface="Arial"/>
              </a:rPr>
              <a:t>Linking learning to the National Standards for Safer Better Healthcare which will link in with this years theme focusing on quality and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t will be important to keep an eye on the timing throughout the day so we all get out on time on a Friday.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D86B3-660E-43CA-ADA8-B1493A01BE48}" type="slidenum">
              <a:rPr b="0" lang="en-IE" sz="1200" spc="-1" strike="noStrike">
                <a:solidFill>
                  <a:srgbClr val="000000"/>
                </a:solidFill>
                <a:latin typeface="Arial"/>
              </a:rPr>
              <a:t>&lt;number&gt;</a:t>
            </a:fld>
            <a:endParaRPr b="0" lang="en-US" sz="1200" spc="-1" strike="noStrike">
              <a:solidFill>
                <a:srgbClr val="000000"/>
              </a:solidFill>
              <a:latin typeface="Verdan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1200" spc="-1" strike="noStrike">
                <a:solidFill>
                  <a:srgbClr val="000000"/>
                </a:solidFill>
                <a:latin typeface="Arial"/>
              </a:rPr>
              <a:t>Abbott Ireland, Amgen, Astellas, A.Menarini, Baxter Healthcare, B.Braun, Covidien, Genzyme, Iskus Health, Keaney Medical, Novartis, Pinewood and TEV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8B3C-474E-4C5C-B87E-0A5F77B87DEC}"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ould really appreciate your feedback so please take time to complete the evaluation form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the end of the day but you must be here to receive the priz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e will make the notes available from todays event on our website in the coming days.</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6403-8EF4-47FA-B0AB-93BDA49944A2}" type="slidenum">
              <a:rPr b="0" lang="en-GB"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F8531-6BFE-4E14-AE99-0854F86BE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57F35-33F0-4085-A75B-957F5E52E0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17ECC1-F39D-42FD-9C28-29B6E82FF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E0D9D-7039-4A06-BF1B-421D06F73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5CA41-0237-403E-9E9C-BB5FEE357D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9E6A69-E3FD-4EC5-8EA6-A2A1EB2998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C5E7CD-7C50-49EE-82A1-2762108849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66E7D9-5324-4BFF-BE10-3C15D799F7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492923-704B-4B68-BB88-B4302C39A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E949F-3E97-4F66-B459-DE20E19F6E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F340C-D68B-45DD-A48D-623043687A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BF2F2-3081-4ABE-9F6D-3DE292DF5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EB792-6938-4C08-93B7-D25AC537A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16922F-8030-4912-AD91-AAB0DFCF8C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EFBE3A-338E-4B47-AC99-B99A0403C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ECD40F-F2BC-4BBD-B45C-5767C151D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F96C57-051A-473C-83B1-E04321E66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192739-5053-454C-A6C5-9BB349C85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CA6B95-DF0E-4E8C-8E53-C555EA0A9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510C0-C55C-4FF7-8C41-C4F4CC7079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1DA65-6B47-4190-980C-A15C19D07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15F67-12B6-43B4-8E92-F0E5C3D8B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C6F7E-B7C0-4088-81F6-B5055B4C6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BBF053-5A8F-4674-9B79-072FFD5DE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custGeom>
              <a:avLst/>
              <a:gdLst/>
              <a:ahLst/>
              <a:rect l="l" t="t" r="r" b="b"/>
              <a:pathLst>
                <a:path w="64000" h="64000">
                  <a:moveTo>
                    <a:pt x="-15240" y="5746"/>
                  </a:moveTo>
                  <a:cubicBezTo>
                    <a:pt x="-6654" y="11730"/>
                    <a:pt x="-1536" y="21534"/>
                    <a:pt x="-1536" y="32000"/>
                  </a:cubicBezTo>
                  <a:cubicBezTo>
                    <a:pt x="-1536" y="-23071"/>
                    <a:pt x="-6654" y="-13267"/>
                    <a:pt x="-15240" y="-7283"/>
                  </a:cubicBezTo>
                  <a:cubicBezTo>
                    <a:pt x="-15240" y="-7283"/>
                    <a:pt x="-15240" y="-7283"/>
                    <a:pt x="-15241" y="-7283"/>
                  </a:cubicBezTo>
                  <a:lnTo>
                    <a:pt x="-15240" y="-7282"/>
                  </a:lnTo>
                  <a:lnTo>
                    <a:pt x="-15240" y="5746"/>
                  </a:lnTo>
                  <a:lnTo>
                    <a:pt x="-15241" y="5746"/>
                  </a:lnTo>
                  <a:cubicBezTo>
                    <a:pt x="-15240" y="5746"/>
                    <a:pt x="-15240" y="5746"/>
                    <a:pt x="-15240" y="5746"/>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AutoShape 4"/>
            <p:cNvSpPr/>
            <p:nvPr/>
          </p:nvSpPr>
          <p:spPr>
            <a:xfrm>
              <a:off x="-2425680" y="0"/>
              <a:ext cx="3093840" cy="3154320"/>
            </a:xfrm>
            <a:custGeom>
              <a:avLst/>
              <a:gdLst/>
              <a:ahLst/>
              <a:rect l="l" t="t" r="r" b="b"/>
              <a:pathLst>
                <a:path w="64000" h="64000">
                  <a:moveTo>
                    <a:pt x="-15459" y="5595"/>
                  </a:moveTo>
                  <a:cubicBezTo>
                    <a:pt x="-6746" y="11560"/>
                    <a:pt x="-1536" y="21440"/>
                    <a:pt x="-1536" y="32000"/>
                  </a:cubicBezTo>
                  <a:cubicBezTo>
                    <a:pt x="-1536" y="-22977"/>
                    <a:pt x="-6746" y="-13097"/>
                    <a:pt x="-15459" y="-7132"/>
                  </a:cubicBezTo>
                  <a:cubicBezTo>
                    <a:pt x="-15459" y="-7132"/>
                    <a:pt x="-15459" y="-7132"/>
                    <a:pt x="-15460" y="-7132"/>
                  </a:cubicBezTo>
                  <a:lnTo>
                    <a:pt x="-15459" y="-7131"/>
                  </a:lnTo>
                  <a:lnTo>
                    <a:pt x="-15459" y="5595"/>
                  </a:lnTo>
                  <a:lnTo>
                    <a:pt x="-15460" y="5595"/>
                  </a:lnTo>
                  <a:cubicBezTo>
                    <a:pt x="-15459" y="5595"/>
                    <a:pt x="-15459" y="5595"/>
                    <a:pt x="-15459" y="5595"/>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E64D-1CE0-45B9-A1AC-76A9923EC18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7" name="AutoShape 4"/>
            <p:cNvSpPr/>
            <p:nvPr/>
          </p:nvSpPr>
          <p:spPr>
            <a:xfrm>
              <a:off x="-2514600" y="1371600"/>
              <a:ext cx="3657600" cy="3657600"/>
            </a:xfrm>
            <a:custGeom>
              <a:avLst/>
              <a:gdLst/>
              <a:ahLst/>
              <a:rect l="l" t="t" r="r" b="b"/>
              <a:pathLst>
                <a:path w="64000" h="64000">
                  <a:moveTo>
                    <a:pt x="-21453" y="2368"/>
                  </a:moveTo>
                  <a:cubicBezTo>
                    <a:pt x="-9409" y="7280"/>
                    <a:pt x="-1536" y="18993"/>
                    <a:pt x="-1536" y="32000"/>
                  </a:cubicBezTo>
                  <a:cubicBezTo>
                    <a:pt x="-1536" y="-20530"/>
                    <a:pt x="-9409" y="-8817"/>
                    <a:pt x="-21453" y="-3905"/>
                  </a:cubicBezTo>
                  <a:cubicBezTo>
                    <a:pt x="-21454" y="-3905"/>
                    <a:pt x="-21454" y="-3905"/>
                    <a:pt x="-21454" y="-3905"/>
                  </a:cubicBezTo>
                  <a:lnTo>
                    <a:pt x="-21453" y="-3904"/>
                  </a:lnTo>
                  <a:lnTo>
                    <a:pt x="-21453" y="2368"/>
                  </a:lnTo>
                  <a:lnTo>
                    <a:pt x="-21454" y="2368"/>
                  </a:lnTo>
                  <a:cubicBezTo>
                    <a:pt x="-21454" y="2368"/>
                    <a:pt x="-21454" y="2368"/>
                    <a:pt x="-21453" y="2368"/>
                  </a:cubicBez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8" name="AutoShape 5"/>
            <p:cNvSpPr/>
            <p:nvPr/>
          </p:nvSpPr>
          <p:spPr>
            <a:xfrm>
              <a:off x="-3222720" y="304920"/>
              <a:ext cx="4038840" cy="4038480"/>
            </a:xfrm>
            <a:custGeom>
              <a:avLst/>
              <a:gdLst/>
              <a:ahLst/>
              <a:rect l="l" t="t" r="r" b="b"/>
              <a:pathLst>
                <a:path w="64000" h="64000">
                  <a:moveTo>
                    <a:pt x="-14542" y="6246"/>
                  </a:moveTo>
                  <a:cubicBezTo>
                    <a:pt x="-6364" y="12279"/>
                    <a:pt x="-1536" y="21837"/>
                    <a:pt x="-1536" y="32000"/>
                  </a:cubicBezTo>
                  <a:cubicBezTo>
                    <a:pt x="-1536" y="-23374"/>
                    <a:pt x="-6364" y="-13816"/>
                    <a:pt x="-14542" y="-7783"/>
                  </a:cubicBezTo>
                  <a:cubicBezTo>
                    <a:pt x="-14543" y="-7783"/>
                    <a:pt x="-14543" y="-7783"/>
                    <a:pt x="-14543" y="-7783"/>
                  </a:cubicBezTo>
                  <a:lnTo>
                    <a:pt x="-14542" y="-7782"/>
                  </a:lnTo>
                  <a:lnTo>
                    <a:pt x="-14542" y="6246"/>
                  </a:lnTo>
                  <a:lnTo>
                    <a:pt x="-14543" y="6246"/>
                  </a:lnTo>
                  <a:cubicBezTo>
                    <a:pt x="-14543" y="6246"/>
                    <a:pt x="-14543" y="6246"/>
                    <a:pt x="-14542" y="6246"/>
                  </a:cubicBez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AEDF-D5BF-47CB-A88D-150B8EBEC75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beaumontkidneycentre.ie/"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jpe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slideLayout" Target="../slideLayouts/slideLayout1.xml"/><Relationship Id="rId1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beaumontkidneycentre.ie/"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1752120"/>
            <a:ext cx="7238880" cy="1444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IE" sz="4000" spc="-1" strike="noStrike">
                <a:solidFill>
                  <a:srgbClr val="006666"/>
                </a:solidFill>
                <a:latin typeface="Arial"/>
              </a:rPr>
              <a:t>4</a:t>
            </a:r>
            <a:r>
              <a:rPr b="0" lang="en-IE" sz="4000" spc="-1" strike="noStrike" baseline="30000">
                <a:solidFill>
                  <a:srgbClr val="006666"/>
                </a:solidFill>
                <a:latin typeface="Arial"/>
              </a:rPr>
              <a:t>th</a:t>
            </a:r>
            <a:r>
              <a:rPr b="0" lang="en-IE" sz="4000" spc="-1" strike="noStrike">
                <a:solidFill>
                  <a:srgbClr val="006666"/>
                </a:solidFill>
                <a:latin typeface="Arial"/>
              </a:rPr>
              <a:t> Annual Conference Transplant &amp; Nephrology Beaumont Hospital</a:t>
            </a:r>
            <a:br>
              <a:rPr sz="4000"/>
            </a:br>
            <a:endParaRPr b="0" lang="en-US" sz="4000" spc="-1" strike="noStrike">
              <a:solidFill>
                <a:srgbClr val="006666"/>
              </a:solidFill>
              <a:latin typeface="Arial"/>
            </a:endParaRPr>
          </a:p>
        </p:txBody>
      </p:sp>
      <p:sp>
        <p:nvSpPr>
          <p:cNvPr id="98" name="PlaceHolder 2"/>
          <p:cNvSpPr>
            <a:spLocks noGrp="1"/>
          </p:cNvSpPr>
          <p:nvPr>
            <p:ph type="subTitle"/>
          </p:nvPr>
        </p:nvSpPr>
        <p:spPr>
          <a:xfrm>
            <a:off x="1523520" y="2819520"/>
            <a:ext cx="7239240" cy="1752480"/>
          </a:xfrm>
          <a:prstGeom prst="rect">
            <a:avLst/>
          </a:prstGeom>
          <a:noFill/>
          <a:ln w="0">
            <a:noFill/>
          </a:ln>
        </p:spPr>
        <p:txBody>
          <a:bodyPr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
            </a:r>
            <a:r>
              <a:rPr b="0" lang="en-IE" sz="2900" spc="-1" strike="noStrike">
                <a:solidFill>
                  <a:srgbClr val="000000"/>
                </a:solidFill>
                <a:latin typeface="Verdana"/>
              </a:rPr>
              <a:t>Focusing on Quality and Safety in Renal Care”</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27</a:t>
            </a:r>
            <a:r>
              <a:rPr b="0" lang="en-IE" sz="2900" spc="-1" strike="noStrike" baseline="30000">
                <a:solidFill>
                  <a:srgbClr val="000000"/>
                </a:solidFill>
                <a:latin typeface="Verdana"/>
              </a:rPr>
              <a:t>th</a:t>
            </a:r>
            <a:r>
              <a:rPr b="0" lang="en-IE" sz="2900" spc="-1" strike="noStrike">
                <a:solidFill>
                  <a:srgbClr val="000000"/>
                </a:solidFill>
                <a:latin typeface="Verdana"/>
              </a:rPr>
              <a:t> November 2015</a:t>
            </a:r>
            <a:endParaRPr b="0" lang="en-US" sz="2900" spc="-1" strike="noStrike">
              <a:solidFill>
                <a:srgbClr val="000000"/>
              </a:solidFill>
              <a:latin typeface="Verdana"/>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9" name="Rectangle 5"/>
          <p:cNvSpPr/>
          <p:nvPr/>
        </p:nvSpPr>
        <p:spPr>
          <a:xfrm>
            <a:off x="2783160" y="5638680"/>
            <a:ext cx="3544200" cy="40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u="sng">
                <a:solidFill>
                  <a:srgbClr val="006666"/>
                </a:solidFill>
                <a:uFillTx/>
                <a:latin typeface="Candara"/>
                <a:ea typeface="Times New Roman"/>
                <a:hlinkClick r:id="rId1"/>
              </a:rPr>
              <a:t>www.beaumontkidneycentre.ie</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Conference Committee</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Veronica Francis CNM 3</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Laura Byrne – Directorate Nurse Manager support</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Helen Dunne – Renal Course Co –Ordinato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Denise McKernan – Renal Day care</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Claire Kennedy –Transplant Registra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Cathal Collier – Renal IT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Annette Butler – Home Therapie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Maria Greene – Renal Virology </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Trish Costello – CPSN Haemodialysis</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Grainne Lambe – Transplant Coordinato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Melanie McDonnell _ Directorate Nurse Manager</a:t>
            </a:r>
            <a:endParaRPr b="0" lang="en-US" sz="1400" spc="-1" strike="noStrike">
              <a:solidFill>
                <a:srgbClr val="000000"/>
              </a:solidFill>
              <a:latin typeface="Verdana"/>
            </a:endParaRPr>
          </a:p>
          <a:p>
            <a:pPr marL="343080" indent="-343080">
              <a:lnSpc>
                <a:spcPct val="80000"/>
              </a:lnSpc>
              <a:spcBef>
                <a:spcPts val="3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Verdana"/>
              </a:rPr>
              <a:t>Petrina Donnelly- Deputy Director of Nursing</a:t>
            </a:r>
            <a:endParaRPr b="0" lang="en-US" sz="1400" spc="-1" strike="noStrike">
              <a:solidFill>
                <a:srgbClr val="000000"/>
              </a:solidFill>
              <a:latin typeface="Verdan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102" name="Picture 2" descr="C:\Users\petrinadonnelly\Desktop\thank_you.jpg"/>
          <p:cNvPicPr/>
          <p:nvPr/>
        </p:nvPicPr>
        <p:blipFill>
          <a:blip r:embed="rId1"/>
          <a:stretch/>
        </p:blipFill>
        <p:spPr>
          <a:xfrm>
            <a:off x="304920" y="4624560"/>
            <a:ext cx="3276360" cy="2233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Agenda</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Attendees will receive a certificate for today's event which has been awarded:</a:t>
            </a:r>
            <a:endParaRPr b="0" lang="en-US" sz="29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Verdana"/>
              </a:rPr>
              <a:t>NMBI Category 1 Approval</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cademy of Medical Laboratory Science (AMLS) &amp;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CPD points  10 </a:t>
            </a:r>
            <a:endParaRPr b="0" lang="en-US" sz="2800" spc="-1" strike="noStrike">
              <a:solidFill>
                <a:srgbClr val="000000"/>
              </a:solidFill>
              <a:latin typeface="Verdan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685440"/>
            <a:ext cx="7313760" cy="606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y-GB" sz="3200" spc="-1" strike="noStrike">
                <a:solidFill>
                  <a:srgbClr val="006666"/>
                </a:solidFill>
                <a:latin typeface="Arial"/>
              </a:rPr>
              <a:t>Support</a:t>
            </a:r>
            <a:endParaRPr b="0" lang="en-US" sz="3200" spc="-1" strike="noStrike">
              <a:solidFill>
                <a:srgbClr val="006666"/>
              </a:solidFill>
              <a:latin typeface="Arial"/>
            </a:endParaRPr>
          </a:p>
        </p:txBody>
      </p:sp>
      <p:pic>
        <p:nvPicPr>
          <p:cNvPr id="106" name="Picture 4" descr=""/>
          <p:cNvPicPr/>
          <p:nvPr/>
        </p:nvPicPr>
        <p:blipFill>
          <a:blip r:embed="rId1"/>
          <a:stretch/>
        </p:blipFill>
        <p:spPr>
          <a:xfrm>
            <a:off x="533520" y="3276720"/>
            <a:ext cx="1809720" cy="620640"/>
          </a:xfrm>
          <a:prstGeom prst="rect">
            <a:avLst/>
          </a:prstGeom>
          <a:ln w="0">
            <a:noFill/>
          </a:ln>
        </p:spPr>
      </p:pic>
      <p:pic>
        <p:nvPicPr>
          <p:cNvPr id="107" name="Picture 12" descr=""/>
          <p:cNvPicPr/>
          <p:nvPr/>
        </p:nvPicPr>
        <p:blipFill>
          <a:blip r:embed="rId2"/>
          <a:stretch/>
        </p:blipFill>
        <p:spPr>
          <a:xfrm>
            <a:off x="6477120" y="3048120"/>
            <a:ext cx="2324160" cy="639720"/>
          </a:xfrm>
          <a:prstGeom prst="rect">
            <a:avLst/>
          </a:prstGeom>
          <a:ln w="0">
            <a:noFill/>
          </a:ln>
        </p:spPr>
      </p:pic>
      <p:pic>
        <p:nvPicPr>
          <p:cNvPr id="108" name="Picture 14" descr=""/>
          <p:cNvPicPr/>
          <p:nvPr/>
        </p:nvPicPr>
        <p:blipFill>
          <a:blip r:embed="rId3"/>
          <a:stretch/>
        </p:blipFill>
        <p:spPr>
          <a:xfrm>
            <a:off x="4191120" y="5562720"/>
            <a:ext cx="2438280" cy="833400"/>
          </a:xfrm>
          <a:prstGeom prst="rect">
            <a:avLst/>
          </a:prstGeom>
          <a:ln w="0">
            <a:noFill/>
          </a:ln>
        </p:spPr>
      </p:pic>
      <p:pic>
        <p:nvPicPr>
          <p:cNvPr id="109" name="Picture 17" descr=""/>
          <p:cNvPicPr/>
          <p:nvPr/>
        </p:nvPicPr>
        <p:blipFill>
          <a:blip r:embed="rId4"/>
          <a:srcRect l="0" t="0" r="68267" b="0"/>
          <a:stretch/>
        </p:blipFill>
        <p:spPr>
          <a:xfrm>
            <a:off x="6172200" y="1600200"/>
            <a:ext cx="2679840" cy="695160"/>
          </a:xfrm>
          <a:prstGeom prst="rect">
            <a:avLst/>
          </a:prstGeom>
          <a:ln w="0">
            <a:noFill/>
          </a:ln>
        </p:spPr>
      </p:pic>
      <p:pic>
        <p:nvPicPr>
          <p:cNvPr id="110" name="Picture 18" descr=""/>
          <p:cNvPicPr/>
          <p:nvPr/>
        </p:nvPicPr>
        <p:blipFill>
          <a:blip r:embed="rId5"/>
          <a:stretch/>
        </p:blipFill>
        <p:spPr>
          <a:xfrm>
            <a:off x="4343400" y="2590920"/>
            <a:ext cx="2038320" cy="503280"/>
          </a:xfrm>
          <a:prstGeom prst="rect">
            <a:avLst/>
          </a:prstGeom>
          <a:ln w="0">
            <a:noFill/>
          </a:ln>
        </p:spPr>
      </p:pic>
      <p:pic>
        <p:nvPicPr>
          <p:cNvPr id="111" name="Picture 8" descr="http://www.ika.ie/wp-content/themes/IKA3/images/header12.jpg"/>
          <p:cNvPicPr/>
          <p:nvPr/>
        </p:nvPicPr>
        <p:blipFill>
          <a:blip r:embed="rId6"/>
          <a:srcRect l="2348" t="4579" r="81217" b="3996"/>
          <a:stretch/>
        </p:blipFill>
        <p:spPr>
          <a:xfrm>
            <a:off x="7391520" y="5257800"/>
            <a:ext cx="990360" cy="942840"/>
          </a:xfrm>
          <a:prstGeom prst="rect">
            <a:avLst/>
          </a:prstGeom>
          <a:ln w="0">
            <a:noFill/>
          </a:ln>
        </p:spPr>
      </p:pic>
      <p:sp>
        <p:nvSpPr>
          <p:cNvPr id="112" name="AutoShape 11"/>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3" name="AutoShape 13"/>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4" name="AutoShape 15"/>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5" name="AutoShape 17"/>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6" name="Picture 18" descr=""/>
          <p:cNvPicPr/>
          <p:nvPr/>
        </p:nvPicPr>
        <p:blipFill>
          <a:blip r:embed="rId7"/>
          <a:stretch/>
        </p:blipFill>
        <p:spPr>
          <a:xfrm>
            <a:off x="3124080" y="3276720"/>
            <a:ext cx="2183040" cy="838080"/>
          </a:xfrm>
          <a:prstGeom prst="rect">
            <a:avLst/>
          </a:prstGeom>
          <a:ln w="0">
            <a:noFill/>
          </a:ln>
        </p:spPr>
      </p:pic>
      <p:sp>
        <p:nvSpPr>
          <p:cNvPr id="117" name="AutoShape 20"/>
          <p:cNvSpPr/>
          <p:nvPr/>
        </p:nvSpPr>
        <p:spPr>
          <a:xfrm>
            <a:off x="17316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18" name="Picture 22" descr="http://fr.academic.ru/pictures/frwiki/66/B.-braunlogo.gif"/>
          <p:cNvPicPr/>
          <p:nvPr/>
        </p:nvPicPr>
        <p:blipFill>
          <a:blip r:embed="rId8"/>
          <a:stretch/>
        </p:blipFill>
        <p:spPr>
          <a:xfrm>
            <a:off x="5867280" y="4267080"/>
            <a:ext cx="1887480" cy="465120"/>
          </a:xfrm>
          <a:prstGeom prst="rect">
            <a:avLst/>
          </a:prstGeom>
          <a:ln w="0">
            <a:noFill/>
          </a:ln>
        </p:spPr>
      </p:pic>
      <p:pic>
        <p:nvPicPr>
          <p:cNvPr id="119" name="Picture 24" descr="http://2.bp.blogspot.com/-3MGxp2OF_GY/VFiQzPPpkGI/AAAAAAAAA6Y/L1412NYRZXs/s1600/sanofi.png"/>
          <p:cNvPicPr/>
          <p:nvPr/>
        </p:nvPicPr>
        <p:blipFill>
          <a:blip r:embed="rId9"/>
          <a:stretch/>
        </p:blipFill>
        <p:spPr>
          <a:xfrm>
            <a:off x="2209680" y="4038480"/>
            <a:ext cx="1924200" cy="808200"/>
          </a:xfrm>
          <a:prstGeom prst="rect">
            <a:avLst/>
          </a:prstGeom>
          <a:ln w="0">
            <a:noFill/>
          </a:ln>
        </p:spPr>
      </p:pic>
      <p:pic>
        <p:nvPicPr>
          <p:cNvPr id="120" name="Picture 17" descr="Mitrone"/>
          <p:cNvPicPr/>
          <p:nvPr/>
        </p:nvPicPr>
        <p:blipFill>
          <a:blip r:embed="rId10"/>
          <a:stretch/>
        </p:blipFill>
        <p:spPr>
          <a:xfrm>
            <a:off x="615960" y="5310360"/>
            <a:ext cx="2687760" cy="1004760"/>
          </a:xfrm>
          <a:prstGeom prst="rect">
            <a:avLst/>
          </a:prstGeom>
          <a:ln w="0">
            <a:noFill/>
          </a:ln>
        </p:spPr>
      </p:pic>
      <p:pic>
        <p:nvPicPr>
          <p:cNvPr id="121" name="Picture 18" descr="http://topclassactionscom.c.presscdn.com/wp-content/uploads/2013/08/LawsuitLogosPics_kidney_Fresenius_Logo.png"/>
          <p:cNvPicPr/>
          <p:nvPr/>
        </p:nvPicPr>
        <p:blipFill>
          <a:blip r:embed="rId11"/>
          <a:stretch/>
        </p:blipFill>
        <p:spPr>
          <a:xfrm>
            <a:off x="457200" y="4191120"/>
            <a:ext cx="1095480" cy="1095120"/>
          </a:xfrm>
          <a:prstGeom prst="rect">
            <a:avLst/>
          </a:prstGeom>
          <a:ln w="0">
            <a:noFill/>
          </a:ln>
        </p:spPr>
      </p:pic>
      <p:pic>
        <p:nvPicPr>
          <p:cNvPr id="122" name="Picture 19" descr="http://www.ahcps.ie/_fileUpload/Image/Cornmarket%20540.jpg"/>
          <p:cNvPicPr/>
          <p:nvPr/>
        </p:nvPicPr>
        <p:blipFill>
          <a:blip r:embed="rId12"/>
          <a:stretch/>
        </p:blipFill>
        <p:spPr>
          <a:xfrm>
            <a:off x="4191120" y="4876920"/>
            <a:ext cx="2149200" cy="482400"/>
          </a:xfrm>
          <a:prstGeom prst="rect">
            <a:avLst/>
          </a:prstGeom>
          <a:ln w="0">
            <a:noFill/>
          </a:ln>
        </p:spPr>
      </p:pic>
      <p:pic>
        <p:nvPicPr>
          <p:cNvPr id="123" name="Picture 20" descr="http://www.inna-ireland.com/images/logo.png"/>
          <p:cNvPicPr/>
          <p:nvPr/>
        </p:nvPicPr>
        <p:blipFill>
          <a:blip r:embed="rId13"/>
          <a:stretch/>
        </p:blipFill>
        <p:spPr>
          <a:xfrm>
            <a:off x="1116000" y="1592280"/>
            <a:ext cx="3733920" cy="609480"/>
          </a:xfrm>
          <a:prstGeom prst="rect">
            <a:avLst/>
          </a:prstGeom>
          <a:ln w="0">
            <a:noFill/>
          </a:ln>
        </p:spPr>
      </p:pic>
      <p:pic>
        <p:nvPicPr>
          <p:cNvPr id="124" name="Picture 22" descr="C:\Users\cathalcollier\AppData\Local\Microsoft\Windows\Temporary Internet Files\Content.IE5\QOUFCNUA\patient_buddy_logo[1].png"/>
          <p:cNvPicPr/>
          <p:nvPr/>
        </p:nvPicPr>
        <p:blipFill>
          <a:blip r:embed="rId14"/>
          <a:stretch/>
        </p:blipFill>
        <p:spPr>
          <a:xfrm>
            <a:off x="838080" y="2286000"/>
            <a:ext cx="3181320" cy="102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6666"/>
                </a:solidFill>
                <a:latin typeface="Arial"/>
              </a:rPr>
              <a:t>Housekeeping</a:t>
            </a:r>
            <a:endParaRPr b="0" lang="en-US" sz="3600" spc="-1" strike="noStrike">
              <a:solidFill>
                <a:srgbClr val="006666"/>
              </a:solidFill>
              <a:latin typeface="Arial"/>
            </a:endParaRPr>
          </a:p>
        </p:txBody>
      </p:sp>
      <p:sp>
        <p:nvSpPr>
          <p:cNvPr id="12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Breakfast – Walls suite 1</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xhibition - Walls Foy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Lunch - </a:t>
            </a:r>
            <a:r>
              <a:rPr b="0" lang="en-GB" sz="2900" spc="-1" strike="noStrike">
                <a:solidFill>
                  <a:srgbClr val="000000"/>
                </a:solidFill>
                <a:latin typeface="Verdana"/>
              </a:rPr>
              <a:t>Burnell Grill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Verdana"/>
              </a:rPr>
              <a:t>Car parking tickets validation</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Evaluation form </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900" spc="-1" strike="noStrike">
                <a:solidFill>
                  <a:srgbClr val="000000"/>
                </a:solidFill>
                <a:latin typeface="Verdana"/>
              </a:rPr>
              <a:t>Raffle at the end of the day but you must be here to receive the prize </a:t>
            </a:r>
            <a:endParaRPr b="0" lang="en-US" sz="2900" spc="-1" strike="noStrike">
              <a:solidFill>
                <a:srgbClr val="000000"/>
              </a:solidFill>
              <a:latin typeface="Verdana"/>
            </a:endParaRPr>
          </a:p>
        </p:txBody>
      </p:sp>
      <p:pic>
        <p:nvPicPr>
          <p:cNvPr id="127" name="Picture 4" descr="C:\Users\petrinadonnelly\Desktop\winooski_plantsale_raffle_2007_logo_1.gif"/>
          <p:cNvPicPr/>
          <p:nvPr/>
        </p:nvPicPr>
        <p:blipFill>
          <a:blip r:embed="rId1"/>
          <a:stretch/>
        </p:blipFill>
        <p:spPr>
          <a:xfrm>
            <a:off x="6400800" y="5638680"/>
            <a:ext cx="2209680" cy="121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369800" y="301320"/>
            <a:ext cx="7313400" cy="460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u="sng">
                <a:solidFill>
                  <a:srgbClr val="006666"/>
                </a:solidFill>
                <a:uFillTx/>
                <a:latin typeface="Candara"/>
                <a:ea typeface="Times New Roman"/>
                <a:hlinkClick r:id="rId1"/>
              </a:rPr>
              <a:t>_x000b_www.beaumontkidneycentre.ie</a:t>
            </a:r>
            <a:endParaRPr b="0" lang="en-US" sz="3600" spc="-1" strike="noStrike">
              <a:solidFill>
                <a:srgbClr val="006666"/>
              </a:solidFill>
              <a:latin typeface="Arial"/>
            </a:endParaRPr>
          </a:p>
        </p:txBody>
      </p:sp>
      <p:pic>
        <p:nvPicPr>
          <p:cNvPr id="129" name="Picture 2" descr=""/>
          <p:cNvPicPr/>
          <p:nvPr/>
        </p:nvPicPr>
        <p:blipFill>
          <a:blip r:embed="rId2"/>
          <a:srcRect l="25043" t="16708" r="27734" b="5517"/>
          <a:stretch/>
        </p:blipFill>
        <p:spPr>
          <a:xfrm>
            <a:off x="2666880" y="1600200"/>
            <a:ext cx="4114800" cy="5083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etrina Donnelly</dc:creator>
  <dc:description/>
  <dc:language>en-US</dc:language>
  <cp:lastModifiedBy>cathalcollier</cp:lastModifiedBy>
  <dcterms:modified xsi:type="dcterms:W3CDTF">2015-11-23T08:21:19Z</dcterms:modified>
  <cp:revision>28</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